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ABC-589F-4C17-A94C-02F3F333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92D-1806-4326-9C46-A1DBFB7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7AC-6F26-4B87-B82F-F77A2B71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AC3-38FC-4A5E-82EA-549F1498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F77-8604-400D-8891-B5D3CF0A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EB6-C192-47AC-906A-E7CD007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AA8-2E1E-4EFD-8E88-BD619702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868-541E-4F89-BD12-8D053C7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082-CA73-403A-AD22-4B8074D3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42D-77D2-4A47-8191-BF9A39A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84D-7F19-433A-BE1A-15701BA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9CF-DF44-48C8-9A0B-C976C87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47F-4817-4215-A681-2A7CE5909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Old scratch got his own at last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ravers MT"/>
              </a:rPr>
              <a:t>r.i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295600" y="3009600"/>
            <a:ext cx="3810240" cy="31244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Engravers MT"/>
              </a:rPr>
              <a:t>Why bless my soul, who’s that?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Josh McCullough</cp:lastModifiedBy>
  <dcterms:modified xsi:type="dcterms:W3CDTF">2011-12-02T01:31:56Z</dcterms:modified>
  <cp:revision>8</cp:revision>
  <dc:subject/>
  <dc:title>Slide 1</dc:title>
</cp:coreProperties>
</file>